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6489720"/>
            <a:ext cx="9360000" cy="558720"/>
          </a:xfrm>
          <a:prstGeom prst="roundRect">
            <a:avLst>
              <a:gd name="adj" fmla="val 28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250920" y="649764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592360" y="6497640"/>
            <a:ext cx="54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-37548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3376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5600" indent="-3376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0320" indent="-2998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0" y="5589720"/>
            <a:ext cx="9325080" cy="136836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9239400" cy="1989000"/>
          </a:xfrm>
          <a:prstGeom prst="roundRect">
            <a:avLst>
              <a:gd name="adj" fmla="val 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754440" y="5800680"/>
            <a:ext cx="16336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4"/>
          <p:cNvGrpSpPr/>
          <p:nvPr/>
        </p:nvGrpSpPr>
        <p:grpSpPr>
          <a:xfrm>
            <a:off x="2948040" y="333360"/>
            <a:ext cx="3278160" cy="1336680"/>
            <a:chOff x="2948040" y="333360"/>
            <a:chExt cx="3278160" cy="1336680"/>
          </a:xfrm>
        </p:grpSpPr>
        <p:sp>
          <p:nvSpPr>
            <p:cNvPr id="45" name="AutoShape 5"/>
            <p:cNvSpPr/>
            <p:nvPr/>
          </p:nvSpPr>
          <p:spPr>
            <a:xfrm>
              <a:off x="2948040" y="333360"/>
              <a:ext cx="3278160" cy="1336680"/>
            </a:xfrm>
            <a:prstGeom prst="roundRect">
              <a:avLst>
                <a:gd name="adj" fmla="val 116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3"/>
            <a:stretch/>
          </p:blipFill>
          <p:spPr>
            <a:xfrm>
              <a:off x="2948040" y="333360"/>
              <a:ext cx="327816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199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5000" indent="-4050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1440" indent="-36792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17880" indent="-33084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61400" indent="-33084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67840" indent="-29376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67840" indent="-29376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67840" indent="-29376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ocalhost/miapagina.php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p.net/" TargetMode="External"/><Relationship Id="rId2" Type="http://schemas.openxmlformats.org/officeDocument/2006/relationships/hyperlink" Target="http://php.html.it/articoli/leggi/2568/php-apache-e-mysql-su-windows-in-un-clic/1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otscripts.com/PHP/Software_and_Servers/Installation_Kit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20072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Introduzione a PHP</a:t>
            </a:r>
            <a:endParaRPr b="1" lang="en-US" sz="40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2989080"/>
            <a:ext cx="78487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7000"/>
              </a:lnSpc>
              <a:spcBef>
                <a:spcPts val="29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Arial"/>
              </a:rPr>
              <a:t>Laboratorio di Progettazione Web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7000"/>
              </a:lnSpc>
              <a:spcBef>
                <a:spcPts val="29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A 2009/201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7000"/>
              </a:lnSpc>
              <a:spcBef>
                <a:spcPts val="29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hiara Rens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STI- CNR - c.renso@isti.cnr.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1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cc99"/>
                </a:solidFill>
                <a:latin typeface="Arial Unicode MS"/>
              </a:rPr>
              <a:t>Pagine PHP sul server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lnSpc>
                <a:spcPct val="97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Le pagine php, come le HTML, risiedono sul web server.  Apache ha una cartella predefinita per le pagine HTML/PHP che è </a:t>
            </a:r>
            <a:r>
              <a:rPr b="1" lang="en-GB" sz="2200" spc="-1" strike="noStrike">
                <a:solidFill>
                  <a:srgbClr val="bbe0e3"/>
                </a:solidFill>
                <a:latin typeface="Arial"/>
              </a:rPr>
              <a:t>htdocs,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nella cartella di installazione di apach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e vogliamo eseguire la pagina 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miapagina.php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obbiamo quindi copiarla nella cartella </a:t>
            </a:r>
            <a:r>
              <a:rPr b="1" lang="en-GB" sz="2200" spc="-1" strike="noStrike">
                <a:solidFill>
                  <a:srgbClr val="bbe0e3"/>
                </a:solidFill>
                <a:latin typeface="Arial"/>
              </a:rPr>
              <a:t>htdoc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e poi visualizzarla digitando dal browser la UR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 algn="ctr">
              <a:spcBef>
                <a:spcPts val="27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bbe0e3"/>
                </a:solidFill>
                <a:latin typeface="Arial"/>
              </a:rPr>
              <a:t>http://localhost/miapagina.ph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3176640" y="4619520"/>
            <a:ext cx="1523880" cy="49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3913200" y="5133960"/>
            <a:ext cx="371520" cy="41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429080" y="5359320"/>
            <a:ext cx="33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me del server web dove risiede la pag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174240"/>
            <a:ext cx="7920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File di configurazione di PHP: php.in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241280"/>
            <a:ext cx="7920000" cy="51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 parametri di funzionamento di PHP sono definiti in un apposito file, denominato</a:t>
            </a: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3399ff"/>
                </a:solidFill>
                <a:latin typeface="Arial"/>
              </a:rPr>
              <a:t>php.ini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he il server web legge ad ogni riavvi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 questo file sono definiti alcuni parametri con i valori di defaul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Non è necessario modificare il file per il corretto funzionamento di PHP, i parametri predefiniti generalmente sono sufficient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 parametri riguardano molti degli aspetti di PHP, ad esempio path dei file, uso della sessioni e dei cookie…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natomia di uno script 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27000" y="1628280"/>
            <a:ext cx="6249960" cy="4202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7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&lt;HTML&gt;&lt;HEAD&gt;&lt;TITLE&gt;PHP&lt;/TITLE&gt;&lt;/HEAD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&lt;BODY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l mio nome è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&lt;?php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$username=“chiara”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cho $username; ?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&lt;/BODY&gt;&lt;/HTML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3551400"/>
            <a:ext cx="21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TML – parte statica della pag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602400" y="5259240"/>
            <a:ext cx="236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HP – parte dinamica della pag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6"/>
          <p:cNvSpPr/>
          <p:nvPr/>
        </p:nvSpPr>
        <p:spPr>
          <a:xfrm flipV="1">
            <a:off x="1030320" y="2455560"/>
            <a:ext cx="1281240" cy="11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 flipH="1" flipV="1">
            <a:off x="5800680" y="4906440"/>
            <a:ext cx="695520" cy="52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52280" y="914400"/>
            <a:ext cx="24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99ff"/>
                </a:solidFill>
                <a:latin typeface="Arial"/>
              </a:rPr>
              <a:t>La pagina deve essere salvata con estensione .ph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Straight Arrow Connector 9"/>
          <p:cNvCxnSpPr/>
          <p:nvPr/>
        </p:nvCxnSpPr>
        <p:spPr>
          <a:xfrm flipH="1">
            <a:off x="5498640" y="3968640"/>
            <a:ext cx="92304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48" name="Text Box 4"/>
          <p:cNvSpPr/>
          <p:nvPr/>
        </p:nvSpPr>
        <p:spPr>
          <a:xfrm>
            <a:off x="6573960" y="3530520"/>
            <a:ext cx="218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mitatore di istru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elimitatori 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9898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l codice PHP si intervalla al codice HTML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 delimitatori permettono al server web di distinguerlo dall’HTML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 delimitatori di PHP sono i caratteri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99ccff"/>
                </a:solidFill>
                <a:latin typeface="Arial"/>
              </a:rPr>
              <a:t>&lt;?ph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per denotare l’inizio (analogo a </a:t>
            </a:r>
            <a:r>
              <a:rPr b="1" lang="it-IT" sz="2400" spc="-1" strike="noStrike">
                <a:solidFill>
                  <a:srgbClr val="99ccff"/>
                </a:solidFill>
                <a:latin typeface="Arial"/>
              </a:rPr>
              <a:t>&lt;?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99ccff"/>
                </a:solidFill>
                <a:latin typeface="Arial"/>
              </a:rPr>
              <a:t>?&gt;</a:t>
            </a:r>
            <a:r>
              <a:rPr b="0" lang="it-IT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er delimitare la f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Per visualizzare l’output di uno script PHP occorre visualizzare la pagina dal browser digitando la URL del server (ad es. </a:t>
            </a:r>
            <a:r>
              <a:rPr b="1" lang="it-IT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ocalhost/miapagina.php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), non aprendo il file direttamente dal brows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-76680"/>
            <a:ext cx="79200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mpi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0520" y="851040"/>
            <a:ext cx="7908840" cy="54957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HTML&gt;&lt;HEAD&gt;&lt;TITLE&gt;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sempio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P&lt;/TITLE&gt;&lt;/HEAD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BODY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o testo è in HTM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P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&lt;?php  echo "questo testo è in PHP”; ?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P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o testo è ancora in HTM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&lt;?php  echo "questo testo è ancora in PHP”; ?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/BODY&gt;&lt;/HTML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crivere sul browser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050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’output di uno script viene scritto sulla finestra del brows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50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’istruzione di stampa di PHP è 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echo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(o  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print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50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&lt;? echo “Ciao”; 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50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opp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50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&lt;? echo(“Ciao”); 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50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opp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50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&lt;? print “Ciao”; 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50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HTML e 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 testo puo’ essere scritto sul browser sia da PHP che direttmanete in HTM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 esempio, questi due pezzi di codice sono equivalenti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99ccff"/>
                </a:solidFill>
                <a:latin typeface="Courier New"/>
                <a:ea typeface="Courier New"/>
              </a:rPr>
              <a:t>&lt;B&gt; &lt;?php echo “ciao!”; ?&gt; &lt;/B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99ccff"/>
                </a:solidFill>
                <a:latin typeface="Courier New"/>
                <a:ea typeface="Courier New"/>
              </a:rPr>
              <a:t>&lt;?php echo “&lt;B&gt;ciao!&lt;/B&gt;”; ?&gt;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mmen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 commenti sono utili per spiegare il cdice scritto (USARLI SPESSO!!!) ma anche per disabilitare temporaneamente una o piu’ istruzioni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sistono tre tipi di commenti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/* commento a </a:t>
            </a:r>
            <a:br>
              <a:rPr sz="2200"/>
            </a:b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riga multipla */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// commento a riga singol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# commento a riga singol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Variabil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e variabili in PHP si denotano con una sequenza di caratteri preceduti dal simbolo 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Lettere MAIUSCOLE e minuscole sono diver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Devono iniziare con una lettera o il carattere sottolineatura (_) possono contenere numer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000" spc="-1" strike="noStrike">
                <a:solidFill>
                  <a:srgbClr val="99ccff"/>
                </a:solidFill>
                <a:latin typeface="Arial"/>
              </a:rPr>
              <a:t>$mia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000" spc="-1" strike="noStrike">
                <a:solidFill>
                  <a:srgbClr val="99ccff"/>
                </a:solidFill>
                <a:latin typeface="Arial"/>
              </a:rPr>
              <a:t>$_EN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000" spc="-1" strike="noStrike">
                <a:solidFill>
                  <a:srgbClr val="99ccff"/>
                </a:solidFill>
                <a:latin typeface="Arial"/>
              </a:rPr>
              <a:t>$var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egnare e visualizzare le variabil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er assegnare un valore ad una variabile si usa il carattere ‘=‘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miavar=17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mess=“Ciao!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e variabili vengono visualizzate dall’istruzione 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ech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echo $miavar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200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l linguaggio 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101240"/>
            <a:ext cx="79200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l linguaggio PHP (PHP Hypertext Preprocessor) è un linguaggio di script lato server, viene cioè interpretato da una componente aggiuntiva del server web. E’ generalmente impiegato per applicazioni web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’ un linguaggio free opensource, liberamente scaricabile da </a:t>
            </a:r>
            <a:r>
              <a:rPr b="1" lang="it-IT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php.ne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e supportato da numerose comunità on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’ indipendente dalla piattafor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ermette di interagire con vari database, tipicamente MySQL ma anche Oracle, Postgres e molti altri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’ integrabile con numerose librerie esterne (grafica, mail, pdf etc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 l’installazione possiamo usare un kit, come Wamp (windows), XAMMP (Linux o Windows) , MAMP (MacOS) o EasyPHP (Windows). Per una guida ai kit di installazione su Windows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hp.html.it/articoli/leggi/2568/php-apache-e-mysql-su-windows-in-un-clic/1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920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ipi delle variabil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10872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924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Un tipo è la descrizione del formato della variab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2400" indent="-3924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Boolean (TRUE, FALSE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240" indent="-35640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$pagato 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2400" indent="-3924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240" indent="-35640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$count=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2400" indent="-3924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loat, dou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240" indent="-35640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$miavar=1.456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2400" indent="-3924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240" indent="-35640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$messaggio=“benvenuto”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2400" indent="-3924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rr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240" indent="-35640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$lista=array(”primo”,”secondo”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6240" indent="-35640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$lista[1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96880" y="0"/>
            <a:ext cx="79200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Lo </a:t>
            </a:r>
            <a:r>
              <a:rPr b="1" i="1" lang="it-IT" sz="3200" spc="-1" strike="noStrike">
                <a:solidFill>
                  <a:srgbClr val="ffcc99"/>
                </a:solidFill>
                <a:latin typeface="Arial Unicode MS"/>
              </a:rPr>
              <a:t>scope</a:t>
            </a: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 di una variabi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992160"/>
            <a:ext cx="7920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’ambito o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scop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di una variabile in PHP è la pagina stessa: ogni variabile esiste solo per lo script dove è definita, alla fine del processamento della pagina scompa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Questo significa che possono coesistere variabili con lo stesso nome se definite in pagine diverse e che non è possibile usare il valore di una variabile in uno script diverso da dove e’ stata definita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 uniche variabili globali permesse sono i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superglobalarray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, array globali predefiniti che sono visibili da qualsiasi pagina dell’applicazi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a vecchie versioni di PHP permettevano la definizione esplicita di variabili globali. Nelle versioni attuali (5) le globali sono disattivate di default nel file php.ini con la direttiva </a:t>
            </a:r>
            <a:r>
              <a:rPr b="1" lang="it-IT" sz="2200" spc="-1" strike="noStrike">
                <a:solidFill>
                  <a:srgbClr val="ffff99"/>
                </a:solidFill>
                <a:latin typeface="Courier New"/>
                <a:ea typeface="Courier New"/>
              </a:rPr>
              <a:t>register_globals = Off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920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Variabili predefinit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079280"/>
            <a:ext cx="8286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Negli script PHP sono disponibili variabili global definite al di fuori dello script, chiamate variabili predefinite (o superglobalarra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</a:rPr>
              <a:t>Variabili del server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, sono definite dal server web e quindi variano a seconda del server usato. Sono definite come l’array $_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99ccff"/>
                </a:solidFill>
                <a:latin typeface="Arial"/>
              </a:rPr>
              <a:t>      </a:t>
            </a:r>
            <a:r>
              <a:rPr b="1" lang="it-IT" sz="2000" spc="-1" strike="noStrike">
                <a:solidFill>
                  <a:srgbClr val="99ccff"/>
                </a:solidFill>
                <a:latin typeface="Arial"/>
              </a:rPr>
              <a:t>$_SERVER[“PHP_SELF”]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nome dello script corrente, </a:t>
            </a:r>
            <a:r>
              <a:rPr b="1" lang="it-IT" sz="2000" spc="-1" strike="noStrike">
                <a:solidFill>
                  <a:srgbClr val="99ccff"/>
                </a:solidFill>
                <a:latin typeface="Arial"/>
              </a:rPr>
              <a:t>$_SERVER[“SERVER_NAME”]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indica il nome del server, </a:t>
            </a:r>
            <a:r>
              <a:rPr b="1" lang="it-IT" sz="2000" spc="-1" strike="noStrike">
                <a:solidFill>
                  <a:srgbClr val="99ccff"/>
                </a:solidFill>
                <a:latin typeface="Arial"/>
              </a:rPr>
              <a:t>$_SERVER[“HTTP_USER_AGENT”]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dica il browser che ha inoltrato la richiesta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</a:rPr>
              <a:t>phpinfo()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fornisce informazioni sullo stato corrente di PHP, tra cui tutte le variabili predefinite. E’ utile ad esempio, per vedere se Mysql è installato e viene visto correttamente da PH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strutto isset()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Questa funziona permette di verificare se una variabile è impostata o meno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sset($var); restituisce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 true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se la variabile $var è settata altrimenti 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&lt;? $var=“Pippo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settata=isset($var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tringh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e stringhe sono sequenza di caratteri alfanumerici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ossono essere definite con i caratteri 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‘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oppure 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“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’unione di stringhe si effettua con il carattere punto (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nome = “Mario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cognome=“Rossi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nomeintero=$nome.$cognome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tringh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17236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ossono essere specificate con virgolette singole </a:t>
            </a:r>
            <a:r>
              <a:rPr b="1" lang="it-IT" sz="2400" spc="-1" strike="noStrike">
                <a:solidFill>
                  <a:srgbClr val="00cc99"/>
                </a:solidFill>
                <a:latin typeface="Arial"/>
              </a:rPr>
              <a:t>‘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oppure doppie </a:t>
            </a:r>
            <a:r>
              <a:rPr b="1" lang="it-IT" sz="2400" spc="-1" strike="noStrike">
                <a:solidFill>
                  <a:srgbClr val="00cc99"/>
                </a:solidFill>
                <a:latin typeface="Arial"/>
              </a:rPr>
              <a:t>“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i differenzian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per i caratteri di </a:t>
            </a: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escape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: sequenze speciali di caratteri che hanno una specifica interpretazione, ad esempio \n per new line, \’ per virgoletta singola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per l’interpretazione delle variabil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tringh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1280" y="1379520"/>
            <a:ext cx="7920000" cy="47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a virgoletta singola ‘ produce un output lettera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ffff99"/>
                </a:solidFill>
                <a:latin typeface="Arial"/>
              </a:rPr>
              <a:t>$var=“variabile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ffff99"/>
                </a:solidFill>
                <a:latin typeface="Arial"/>
              </a:rPr>
              <a:t>$myvar = ‘La mia $var! \n’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ffff99"/>
                </a:solidFill>
                <a:latin typeface="Arial"/>
              </a:rPr>
              <a:t>print($myvar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produce come outpu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ffff99"/>
                </a:solidFill>
                <a:latin typeface="Arial"/>
              </a:rPr>
              <a:t>La mia $var!\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200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tringh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1157040"/>
            <a:ext cx="79200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a virgoletta doppia “ produce un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output processato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caratteri che seguono il backslash vengono tradot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e variabili vengono valu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ffff99"/>
                </a:solidFill>
                <a:latin typeface="Arial"/>
              </a:rPr>
              <a:t>$var=“variabile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ffff99"/>
                </a:solidFill>
                <a:latin typeface="Arial"/>
              </a:rPr>
              <a:t>$myvar = “La mia $var! \n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ffff99"/>
                </a:solidFill>
                <a:latin typeface="Arial"/>
              </a:rPr>
              <a:t>print($myvar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produce come outpu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ffff99"/>
                </a:solidFill>
                <a:latin typeface="Arial"/>
              </a:rPr>
              <a:t>La mia variabile!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tringh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e stringhe che contengono un numero nella parte iniziale possono essere convertite in numer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sempio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$stringa=“45 anni”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$num=2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$add = $num + $string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0120" y="0"/>
            <a:ext cx="79200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Operatori su stringh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792000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Vediamo alcuni degli operatori di manipolazione di stringhe. Numerosi altri sono disponibili sulla documentazione del linguagg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strlen(stringa)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restituisce il numero di caratteri della strin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trim/ltrim/rtrim(stringa).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Trim elimina spazi all’inizio e alla fine della stringa, ltrim a sinistra rtrim a dest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substr(stringa, intero1 [,intero2]).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Restituisce la sottostringa che inizia alla posizione intero1 eventualmente fino a intero1+intero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str_replace(str1,str2,str3)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restituisce una nuova stringa dove sostituisce tutte le occorrenze di str1 con str2 in str3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strtolower/strtoupper(stringa)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converte tutti i caratteri in minuscolo/maiuscol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l confronto tra stringhe si effettua con gli usuali operatori di confronto ==, &lt;, &gt;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cc99"/>
                </a:solidFill>
                <a:latin typeface="Arial Unicode MS"/>
              </a:rPr>
              <a:t>PHP 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86132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agine  facili da creare e non necessitano di compilazion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HP è un linguaggio di scripting server side free opensour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’ stato introdotto da Lerdorf nel ‘94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Le pagine PHP sono completamente integrate con l’HTML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l linguaggio di scripting è meno strutturato di un linguaggio di programmazione classic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399px-Lerdorf"/>
          <p:cNvPicPr/>
          <p:nvPr/>
        </p:nvPicPr>
        <p:blipFill>
          <a:blip r:embed="rId1"/>
          <a:stretch/>
        </p:blipFill>
        <p:spPr>
          <a:xfrm>
            <a:off x="7734240" y="0"/>
            <a:ext cx="140976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mpio manipolazione di stringh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&lt;? $str=“pippo pluto e paperino“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$n=strlen($str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$n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estituirà la lunghezza in caratteri della stringa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Operatori numeric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HP supporta cinque operatore numeric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7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Addizione 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a + $b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7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ottrazione 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a - $b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7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Moltiplicazione 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a * $b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7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Divisione 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a / $b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17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Modulo 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a % $b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170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cremento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 $i++ incrementa di 1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170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Decremento</a:t>
            </a: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 $i--  decrementa di 1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920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ata e or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963360"/>
            <a:ext cx="79200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ono disponibili varie funzioni per reperire la data e ora correnti sul server. Il tempo viene rappresentato come un 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timestamp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che rappresenta i secondi trascorso dall’”ora zero” Unix, 1 gennaio 1970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 PHP abbiamo due funzioni per reperire la data: 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getdate()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che restituisce un array contente data e ora corrente e 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date(“formato”)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 che restituisce la data nel formato definito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dataoggi=date(“j/M/Y”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echo $dataoggi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Visualizzerà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21/Apr/2010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4960" y="-201600"/>
            <a:ext cx="79203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struzione date()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798120"/>
            <a:ext cx="79200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ate(“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formato”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) dove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formato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può conten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Y anno su 4 cif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y anno su 2 cif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 mese nume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 mese numerico su due cif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 mese testu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 mese testuale su tre lett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 giorno del mese su due cif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j giorno del me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w giorno della settim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 giorno della settimana testu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 giorno della settimana su tre lett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H ora su due cif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 o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minu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 secon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32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ESEMPIO: date(“j/M/Y”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strutto condiziona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&lt;?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if (</a:t>
            </a:r>
            <a:r>
              <a:rPr b="1" i="1" lang="it-IT" sz="2200" spc="-1" strike="noStrike">
                <a:solidFill>
                  <a:srgbClr val="ff6600"/>
                </a:solidFill>
                <a:latin typeface="Arial"/>
              </a:rPr>
              <a:t>condizione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) {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istruzioni da eseguire se la condizione è ver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}  else {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istruzioni da eseguire se la condizione è fal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}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l risultato di condizione deve essere un valore booleano, quindi una variabile, se essa è booleana, oppure un operatore di confronto tra variabil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Operatori di confront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6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$a == $b ugua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$a === $b identico (uguale anche il tip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$a != $b non ugua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$a !== $b non identic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$a &gt; $b maggi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$a &lt; $b min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$a &gt;= $b maggiore ugua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$a &lt;= $b minore ugua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7920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Operatori logic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1280" y="1336320"/>
            <a:ext cx="7920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Arial"/>
              </a:rPr>
              <a:t>and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vero se e solo se entrambi gli argomenti sono veri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Arial"/>
              </a:rPr>
              <a:t>or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vero solo se uno (o entrambi) degli argomenti è ver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Arial"/>
              </a:rPr>
              <a:t>!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egazione. E’ vero solo se il suo argomento è falso e vicevers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Arial"/>
              </a:rPr>
              <a:t>xor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vero solo se uno dei due agomenti (ma non entrambi) sono veri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Arial"/>
              </a:rPr>
              <a:t>&amp;&amp;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ome and  ma con ottimizzazione di valutazione del primo argomen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Arial"/>
              </a:rPr>
              <a:t>||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ome  or con ottimizzazione di valutazione del primo argomen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3880" y="230040"/>
            <a:ext cx="79200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struzione switch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switch (espression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{ case costante_espressione: istruzione; break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case costante_espressione: istruzione; break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...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default: istruzione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}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appresenta una serie di if annidat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87200"/>
            <a:ext cx="79200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witch - esempi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1365120"/>
            <a:ext cx="79200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&lt;?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switch ($miavar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{ case 5: echo “Insufficiente"; break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case 10: echo "10 e lode!!"; break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default: echo “sufficiente"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}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icl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cc99"/>
                </a:solidFill>
                <a:latin typeface="Arial"/>
              </a:rPr>
              <a:t>while (espressione) { istruzione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’istruzione viene ripetuta fino a quando l’espressione viene valutata a TR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&lt;? $a=1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while ($a&lt;10) 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echo $a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$a++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} ?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174600"/>
            <a:ext cx="7921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cc99"/>
                </a:solidFill>
                <a:latin typeface="Arial Unicode MS"/>
              </a:rPr>
              <a:t>Caratteristiche di 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dipendente dalla piattaforma (Windows,MacOS,Linu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ecessita di un Webserver (Apache, IIS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ssibilità di connessione a molti database (Oracle, MySQl, Postgres, Access,…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a versione attuale è la 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’ uno dei linguaggi lato server più usati al mondo, è installato su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iù di 20 milioni  di websites (Wikipedi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icl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do { istruzione } while (espressione);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’istruzione viene eseguita prima della valutazione dell’espressione, quindi almeno una volta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&lt;? $a=0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do {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echo “ciclo do-while questo è a: $a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} while  ($a &gt; 0) ; 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icl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for (espressione1;espressione2;espressione3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cc99"/>
                </a:solidFill>
                <a:latin typeface="Arial"/>
              </a:rPr>
              <a:t>{ istruzione }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sempio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&lt;? for ($i=0;$i&lt;=10;$i++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{ echo $i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} 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stallare PHP-MY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386000"/>
            <a:ext cx="83502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er poter utilizzare PHP con il database MySQL (configurazione tipica per le applicazioni web) occorre installare un server web, PHP e MYSQL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’installazione integrata di queste tre componenti non è sempre agevole, per questo motivo sono stati resi disponibili in rete dei </a:t>
            </a: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kit di installazione integrati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(as es. EasyPHP per Windows, MAMP per MAcOS e XAMMP per Linux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otscripts.com/PHP/Software_and_Servers/Installation_Kits/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’installazione tipica di PHP è LAMP, che sta per Linux, Apache, MySQL, PHP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921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cc99"/>
                </a:solidFill>
                <a:latin typeface="Arial Unicode MS"/>
              </a:rPr>
              <a:t>Una pagina 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3000"/>
              </a:lnSpc>
              <a:spcBef>
                <a:spcPts val="27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na pagina PHP è un file di testo con estensione </a:t>
            </a: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.php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e contien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3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esto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3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arcatori HTM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3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mandi scrip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9218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cc99"/>
                </a:solidFill>
                <a:latin typeface="Arial Unicode MS"/>
              </a:rPr>
              <a:t>Una pagina 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3000"/>
              </a:lnSpc>
              <a:spcBef>
                <a:spcPts val="27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 PHP la parte di script può apparire in qualsiasi punto della pagina html e viene delimitato dai 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delimitatori di script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3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Arial"/>
              </a:rPr>
              <a:t>&lt;?php  e   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3000"/>
              </a:lnSpc>
              <a:spcBef>
                <a:spcPts val="27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d esempio il comando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Arial"/>
                <a:ea typeface="Courier New"/>
              </a:rPr>
              <a:t>&lt;?php $x=“ciao”; 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3000"/>
              </a:lnSpc>
              <a:spcBef>
                <a:spcPts val="27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ssegna alla variabile x il valore "ciao"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18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cc99"/>
                </a:solidFill>
                <a:latin typeface="Arial Unicode MS"/>
              </a:rPr>
              <a:t>Una pagina 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lnSpc>
                <a:spcPct val="97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ndo il web server riceve la richiesta di una pagina con estensione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.php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sa che la pagina deve essere processata dal modulo PHP. Il risultato della computazione viene tornato al web server che lo restituisce al client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Gli elementi HTML sono passati direttamente al server web mentre le parti di script vengono interpretate dal motore di scripting PHP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 un file PHP le parti di script si alternano e si integrano al  codice HTM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Funzionamento di 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77800" y="1587600"/>
            <a:ext cx="1298520" cy="1620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7800" y="4322880"/>
            <a:ext cx="1298520" cy="1620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443480" y="1571760"/>
            <a:ext cx="4475160" cy="47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700520" y="1765440"/>
            <a:ext cx="3930840" cy="93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105680" y="4843440"/>
            <a:ext cx="1460520" cy="11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4700520" y="4853160"/>
            <a:ext cx="1460520" cy="11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700520" y="2878200"/>
            <a:ext cx="1460520" cy="11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7843680" y="2695680"/>
            <a:ext cx="0" cy="21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 flipH="1">
            <a:off x="6176880" y="5407200"/>
            <a:ext cx="93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 flipV="1">
            <a:off x="5389560" y="4138200"/>
            <a:ext cx="0" cy="7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 flipH="1">
            <a:off x="1941480" y="5005440"/>
            <a:ext cx="2454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 flipH="1">
            <a:off x="1917360" y="2365200"/>
            <a:ext cx="2454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780080" y="1878120"/>
            <a:ext cx="18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rver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6993000" y="3417840"/>
            <a:ext cx="96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dividua lo scri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6167520" y="4821120"/>
            <a:ext cx="96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alizza lo scrip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4883040" y="4981680"/>
            <a:ext cx="11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ser del linguag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449600" y="4100400"/>
            <a:ext cx="96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enera la pagina 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4892760" y="3352680"/>
            <a:ext cx="352440" cy="46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4829040" y="3016080"/>
            <a:ext cx="1154160" cy="1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4821120" y="3168720"/>
            <a:ext cx="1154160" cy="11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5340240" y="3378240"/>
            <a:ext cx="66672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5340240" y="3522600"/>
            <a:ext cx="66672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7593120" y="5021280"/>
            <a:ext cx="66672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7593120" y="5214960"/>
            <a:ext cx="66672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7593120" y="5424480"/>
            <a:ext cx="66672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7593120" y="5600880"/>
            <a:ext cx="666720" cy="6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577800" y="168444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rowser we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1"/>
          <p:cNvSpPr/>
          <p:nvPr/>
        </p:nvSpPr>
        <p:spPr>
          <a:xfrm>
            <a:off x="569880" y="438768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rowser we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1955880" y="1940040"/>
            <a:ext cx="25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Richiede uno 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898640" y="4611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Fornisce la pagina 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4:25:14Z</dcterms:created>
  <dc:creator/>
  <dc:description/>
  <dc:language>en-US</dc:language>
  <cp:lastModifiedBy>Chiara Renso</cp:lastModifiedBy>
  <cp:lastPrinted>2010-04-20T15:38:42Z</cp:lastPrinted>
  <dcterms:modified xsi:type="dcterms:W3CDTF">2010-04-21T11:42:26Z</dcterms:modified>
  <cp:revision>118</cp:revision>
  <dc:subject/>
  <dc:title>Laboratorio di Progettazione Web</dc:title>
</cp:coreProperties>
</file>